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EC17-01E2-4ECE-A679-AAE1F5A2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DE8-E508-4E0F-B850-5012DAE8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20A-48F6-4431-BD23-A1AD9F5A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B13-1359-4A3B-BCED-3DFDF11A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685F-8002-417D-B4EE-5A9DE0CC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5113-4682-4E38-8912-2E9816A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173E-C3C4-493A-A73E-CE77B237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863D-FC55-4E06-BA8A-EBC9A323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5998-5C68-4E86-ABFC-092A62EA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A305-68A5-45A2-BD62-6B8D25DF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D4F9-E938-4A62-8B8B-9EFA7101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537-8691-4542-8228-220543F4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915C-A505-404D-AD7A-C5FDA99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7ECD-3E72-40B0-8348-18FD1BB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BBB1-0CBF-456C-95B8-85D18F2D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65D8-40A1-4929-8515-24670D56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6F9B-EA8A-4BCD-9DF6-BE90D086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37A-3E40-4DA2-BAE7-89BF0DD2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94E-0722-41E8-8AA8-098FCFFF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EFF-5DB8-4F69-AE32-11E448BA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501-9875-4315-9C3D-F278B442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38B-01C2-4688-9749-196BD58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6AE-2C6D-4D1A-AEDE-C33240B4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EC5-867F-4017-BE7D-5B16197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71B9-50DE-4825-AF7B-D70864EDF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7722-5E5F-4D9C-908F-AD93BCA91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1413000"/>
          <a:ext cx="3671640" cy="3400200"/>
        </p:xfrm>
        <a:graphic>
          <a:graphicData uri="http://schemas.openxmlformats.org/drawingml/2006/table">
            <a:tbl>
              <a:tblPr/>
              <a:tblGrid>
                <a:gridCol w="917280"/>
                <a:gridCol w="919080"/>
                <a:gridCol w="917640"/>
                <a:gridCol w="91764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859280" y="152496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 u="sng">
                <a:solidFill>
                  <a:srgbClr val="ffffff"/>
                </a:solidFill>
                <a:uFillTx/>
                <a:latin typeface="Comic Sans MS"/>
              </a:rPr>
              <a:t>Y sgwâr gw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ff"/>
                </a:solidFill>
                <a:latin typeface="Comic Sans MS"/>
              </a:rPr>
              <a:t>Pa rif ddylai fod yn y sgwar gw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0:25:43Z</dcterms:created>
  <dc:creator>Carwyn</dc:creator>
  <dc:description/>
  <dc:language>en-US</dc:language>
  <cp:lastModifiedBy>Carwyn</cp:lastModifiedBy>
  <dcterms:modified xsi:type="dcterms:W3CDTF">2008-12-02T20:31:26Z</dcterms:modified>
  <cp:revision>1</cp:revision>
  <dc:subject/>
  <dc:title>Slide 1</dc:title>
</cp:coreProperties>
</file>